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1263-C767-4E7C-8FA0-C9EA7CA5E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236C-3030-4987-9176-14F97DA24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A22A-3E85-46D5-AD41-8EC148951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695E-E63A-4D49-9021-68157055A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26FD-486A-42CE-84A9-E35AFCB75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4A12-5A15-4700-A9D3-82ADADD9D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99FD-12CD-457A-9BC8-1F8E2CA4C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686E-EB73-406B-BC53-4BB8A6165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3703-3DAB-4AFB-8443-9C7D50AB8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A436-7E6C-42A1-93DE-31E92DEE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46D2-9D05-4996-AFB7-7E4E2D9E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0F10-7E5A-42A0-BFCC-375DEAA8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42E8B-CBF1-4109-81CC-DDCBF09139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03T06:38:21Z</dcterms:created>
  <dc:creator>user</dc:creator>
  <dc:description/>
  <dc:language>en-US</dc:language>
  <cp:lastModifiedBy>user</cp:lastModifiedBy>
  <dcterms:modified xsi:type="dcterms:W3CDTF">2021-08-03T06:50:57Z</dcterms:modified>
  <cp:revision>2</cp:revision>
  <dc:subject/>
  <dc:title>Презентация PowerPoint</dc:title>
</cp:coreProperties>
</file>