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A822-C506-45A0-B77B-909E81AA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9A9C-DA30-493F-844A-6F5BD9BD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AFEC-2E99-4AFF-8D41-B7A31E45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E98B-964A-45CF-BE1C-66491A26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402-92E0-4B3C-BF74-C16180C2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458-C9A9-494F-BE29-8B314B8D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76E-67DA-4FB4-B5B3-2258013B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2797-739E-46AA-9337-E29AF282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CD7E-7527-4740-B134-406AB2D1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349-82BD-42EC-A7A2-58957EF3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6450-1204-4DC0-B215-527E47A9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8329-154B-456A-8F89-ED9E9BFA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BB36-67D3-4E98-87F1-D5F8BF5A3D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7-30T11:54:46Z</dcterms:created>
  <dc:creator>user</dc:creator>
  <dc:description/>
  <dc:language>en-US</dc:language>
  <cp:lastModifiedBy>user</cp:lastModifiedBy>
  <dcterms:modified xsi:type="dcterms:W3CDTF">2021-07-30T12:00:35Z</dcterms:modified>
  <cp:revision>1</cp:revision>
  <dc:subject/>
  <dc:title>Презентация PowerPoint</dc:title>
</cp:coreProperties>
</file>